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uidance of action both now and in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ign: purposes, execution plan, evaluation meas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ecution: evaluation of implementation, evaluation of design, evaluation of m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llow-up: overall evaluation (including all previous + outcom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37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6040"/>
            <a:ext cx="82137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4240" y="148392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1640" y="148392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604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4240" y="377604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1640" y="377604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137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37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2026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137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632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6040"/>
            <a:ext cx="82137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37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6040"/>
            <a:ext cx="82137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632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4240" y="148392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1640" y="148392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604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4240" y="377604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1640" y="3776040"/>
            <a:ext cx="2644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37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2026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7604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483920"/>
            <a:ext cx="4008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6040"/>
            <a:ext cx="82137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" name="Picture 4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137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24000" y="6491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fi.opasnet.org/fi/Tekai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1241280" y="3951360"/>
            <a:ext cx="6656040" cy="193680"/>
            <a:chOff x="1241280" y="3951360"/>
            <a:chExt cx="6656040" cy="193680"/>
          </a:xfrm>
        </p:grpSpPr>
        <p:sp>
          <p:nvSpPr>
            <p:cNvPr id="43" name="Freeform 2"/>
            <p:cNvSpPr/>
            <p:nvPr/>
          </p:nvSpPr>
          <p:spPr>
            <a:xfrm>
              <a:off x="1241280" y="3951360"/>
              <a:ext cx="6656040" cy="19368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Rectangle 4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579560"/>
            <a:ext cx="8202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900000" y="6237360"/>
            <a:ext cx="748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innokyla.fi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68360" y="458136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Ympäristöstä aiheutuvien terveys-haittojen arviointi päätöksenteoss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332000" y="5877000"/>
            <a:ext cx="6400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Jouni Tuomi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THL, Ympäristöterveyden osa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392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9536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ljä perusosa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ahdonilm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päättäjän tavoitteet tiedossa ja toiminnan pohj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teut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tiedon keruu ja jäsentäminen päätöksen tue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uranta ja ohj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jatkuva työn peilaaminen ja parantaminen määriteltyjen tavoitteiden suht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hteenvetämisen tait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tietotaitoa siitä, miten tietoa ja arvoja jäsennetään johdonmukaiseksi kokonaisuude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aisu-menetelmän peruste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227016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ympäristöterveydenhuollon yksiköille: huom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9" name="Picture 2" descr="http://194.187.214.42/rtools_server/runs/MWnwQ5Pl38nphyQ6_plot007.png"/>
          <p:cNvPicPr/>
          <p:nvPr/>
        </p:nvPicPr>
        <p:blipFill>
          <a:blip r:embed="rId1"/>
          <a:stretch/>
        </p:blipFill>
        <p:spPr>
          <a:xfrm>
            <a:off x="19080" y="1336680"/>
            <a:ext cx="7361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ympäristöterveydenhuollon yksiköille: organisaation vaiku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1" name="Picture 2" descr="http://194.187.214.42/rtools_server/runs/MWnwQ5Pl38nphyQ6_plot025.png"/>
          <p:cNvPicPr/>
          <p:nvPr/>
        </p:nvPicPr>
        <p:blipFill>
          <a:blip r:embed="rId1"/>
          <a:stretch/>
        </p:blipFill>
        <p:spPr>
          <a:xfrm>
            <a:off x="0" y="1268280"/>
            <a:ext cx="74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ympäristöterveydenhuollon yhteistoiminta-alueille (2/2013):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37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ullaanko terveydensuojelua kuntien päätösvalmistelussa? YVAssa huonosti, rakennusluvituksessa hyv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rooli terveydensuojelulla on? Joskus ei mitään, usein lausunnonantajana, harvoin osallistuj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ooli vaikutusarvioinneissa oh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ä tukea tarvitaan? Tukea vaikutusarviointien tekemiseen, helppoja työkalu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ä muutosta halutaan? Suurempi ja vaikuttavampi rooli päätösvalmistelu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4689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yökalu vesiriskien laskemise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79280" y="595008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b050"/>
                </a:solidFill>
                <a:latin typeface="Arial"/>
              </a:rPr>
              <a:t>http://fi.opasnet.org/fi/Vesiopas_-_help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monet ulottuvuud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nakkoarviointi, toiminnan ohjaus, jälkiarviointi (evaluoint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elkkä jälkiarviointi on vain myöhässä aloitettua (ja siksi puutteellista) arvioint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okonaisvaltainen arviointinäkökul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jallinen jatkumo: ennen, aikana, jälk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i vain prosessia (hanketta), vaan etenkin vaikutuksia ja niiden syit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ähtökoh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avoitteena on tehokas ja vaikuttava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OIM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ätä tukemaan tarvitaan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ämän organisoimiseen tarvitaan</a:t>
            </a:r>
            <a:br>
              <a:rPr sz="2200"/>
            </a:b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ARVIOINTEJA JA TIETOJÄRJESTELMI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Näiden toteuttamiseen tarvitaan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ÄYTÄNTÖJÄ JA TEKNOLOGIO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6732720" y="1916280"/>
            <a:ext cx="93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7bc14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804000" y="4292640"/>
            <a:ext cx="936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7bc14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6732720" y="2997360"/>
            <a:ext cx="93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7bc14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hitetty yhdessä Innokylän kan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ydentää Innokylän lähestymistapa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ajentaa ajattelua sosiaali- ja terveydenhuollon ulkopuol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orostaa vaikutusarviointeja päätösvalmistelu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käytäntöjä, ohjeistusta ja kriteereitä vaikutusarviointien evaluointi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tkuvan seurannan ja ohjauksen peria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Innokylä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Innokylä tarjoaa </a:t>
            </a: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sosiaali- ja terveysalan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 toimijoille ympäristön, jossa nämä voivat löytää toisensa, kehittää yhdessä sekä levittää uusia ideoita ja innovaatioita. Innokylässä ihmiset ja ideat kohtaava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Https://www.innokyla.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hteiskehitys, toteutus,</a:t>
            </a:r>
            <a:br>
              <a:rPr sz="2400"/>
            </a:br>
            <a:r>
              <a:rPr b="0" i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valuointi, levittämi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älineet, tuki, tapahtu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STE, Kuntaliitto, TH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5035680" y="2935440"/>
            <a:ext cx="313992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austa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mpäristö vaikuttaa terveyte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lmansaasteet, pienhiukk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osteusvauriot, hometa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lu ja h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ysyvät orgaaniset ympäristömyrkyt ja metal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EKAISU ja Innokylä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iedon tehokas hyödyntäminen käytännöss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amanlainen toimintamalli ja pragmaattinen tietoon keskittyvä lähestymistap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aja (vähintäänkin kansallinen) vaikuttav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TM, THL, Kuntaliit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Yhteistyö THL/YMAL ↔ THL/MEKA ↔ Nordem menetelmä- ja välinekehityksessä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nnokylästä mallia, keinoja ja osaamista TEKAISU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TEKAISU pienempi ja keskittyy ensin uusiin käytäntöihin muutamissa esimerkkitapauksissa (toisaalta TEKAISUn kohde laajemp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n kehityshanke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hdonilmais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julkiset tavoitteet ja päämäärä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eutu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toiminnan ja sen suunnittelun ja valmistelun periaatt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uranta ja ohjau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kokonaisvaltainen jatkuva arviointi osana hankkeen toteutusta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päätöksentekokäytännöstä täydentäviä menetelmiä hankearvioinnin tueks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→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nkesuunnitelma ja sen toimeenpan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yvän hankkeen ominaisuude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pää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edon/suunnitelma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llön laat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arkkuus, harhattomuus, sisäinen yhdenmukais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ovellettav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erkityksellisyys, saatavuus, käytettävyys, hyväksyttävy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ehokk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inen tehokkuus, ulkoinen tehokk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Uusien biodieselin raaka-aineiden vaikutusarvioin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sällön laatu (varsin) hyv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hokkuus hyv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elpo tulokset pienin resurs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ulokset helposti hyödynnettäviss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vellettavuudessa kuitenkin puutte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laaja/käyttäjä (Neste Oil) ei julkistanut tarpeitaan selvästi eikä osallistunut työhön aktiivisesti (-&gt; heikko merkityksellisyys ja käytettävyy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Kattavuu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apu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aikutuk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uomioidut, oleelliset, tärkeimmä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yyt (vaikuttime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uomioidut, oleelliset, tärkeimmä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sianosai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lukkaat, mahdolliset, vastuullise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oimij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et, hyötyjät, tarvitsij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erilaiset vaikutusarviointi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immat vakiintuneet vaikutusarvioinnin menetelmät rajattuja joko tarkasteltavien vaikutusten ja niiden syiden sekä huomioon ja mukaan otettavien toimijoiden suhte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YVA, TVA, RA,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nalta asetetut rajoitteet harvoin yhdenmukaisia tiedon tarpeen kanssa ja siten usein heikentävät tuotetun tiedon käyttökelpoisuut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voimuu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apu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avoim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etkä saavat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edon avoim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ä määrin tietoa on saatavilla?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ajoit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lloin voi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kattav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hin toimintoihin voi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vaikut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ä määrin osallistujat voivat vaikutta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2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ympäristöterveydenhuollon yksiköille: avoimu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64" name="Picture 2" descr="http://194.187.214.42/rtools_server/runs/MWnwQ5Pl38nphyQ6_plot002.png"/>
          <p:cNvPicPr/>
          <p:nvPr/>
        </p:nvPicPr>
        <p:blipFill>
          <a:blip r:embed="rId1"/>
          <a:stretch/>
        </p:blipFill>
        <p:spPr>
          <a:xfrm>
            <a:off x="31680" y="1292400"/>
            <a:ext cx="741996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Puijon metsienhoito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usta alkaen avoin prosessi, useita sidosryhmätilaisuuksia ja työpajoj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itenkin lopulta monet tyytymättömiä lopputulokseen, miks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ikka kuultiin, erilaisia näkemyksiä ei osattu sisällyttää loppuraporttiin (→ heikko osallistumisen vaikuttavuus ja kattavu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urauksena paljon kiistelyä kaupunginvaltuuston päätöksiin ja suunnitelman toimeenpanoon liitty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yväksyttävy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huomioitu olennaiset tiedot asiast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huomioitu olennaiset arvoarvostelm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tavoitteet kuvattu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päättely tavoitteista suunnitelmaan/toimeenpanoon kuvattu?</a:t>
            </a:r>
            <a:br>
              <a:rPr sz="2600"/>
            </a:b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oivatko kaikki asianosaiset/toimijat vastata kaikkiin edellisiin kysymyksiin kyllä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s on osa (kunnallista) päätöksenteko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avoitus ja sen vaikutukset mm. liikentees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mpäristön viihtyisyys ja sen vaikutus hyvinvointi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VA, ympäristöluvitus (Talvivaar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akennusluv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ätöksentekijöinä mm. kunnat, AVIt, ely-keskuk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 Kasteess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oli rakentaa Kaste-hakemus 2013 soveltamaan ja testaamaan avointa päätöksentekokäytäntö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ati liikaa sitoutumista ja resurssointia kunnil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yt kevyempi kunta- ja hankeyhteistyö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konkreettiset hankkeet, joi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äätöksenteon tukemisen elemen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nkkeen vaikuttavuuden evaluoint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mpäristöterveyden näkökul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yös työkalujen testausta käytännön työssä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ustel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öytyisikö esimerkkejä teidän hankkeistanne tai muusta toimintaympäristöstä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nkesuunnitelman/-toteutuks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ltö, sovellettavuus, tehokk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attav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806400"/>
                <a:tab algn="l" pos="1263600"/>
                <a:tab algn="l" pos="1720800"/>
                <a:tab algn="l" pos="2178000"/>
                <a:tab algn="l" pos="2635200"/>
                <a:tab algn="l" pos="3092400"/>
                <a:tab algn="l" pos="3549600"/>
                <a:tab algn="l" pos="4006800"/>
                <a:tab algn="l" pos="4464000"/>
                <a:tab algn="l" pos="4921200"/>
                <a:tab algn="l" pos="5378400"/>
                <a:tab algn="l" pos="5835600"/>
                <a:tab algn="l" pos="6292800"/>
                <a:tab algn="l" pos="6750000"/>
                <a:tab algn="l" pos="7207200"/>
                <a:tab algn="l" pos="7664400"/>
                <a:tab algn="l" pos="8121600"/>
                <a:tab algn="l" pos="8578800"/>
                <a:tab algn="l" pos="903600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yväksyttävyy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en terveysvaikutukset huomioida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arviointi päätösvalmistelun tuke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VA, TVA, SVA, SOVA, YVA,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kokonaisvaltainen lähestymistap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n arviointi  ohjeistaa arviointikäytäntöj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5680" indent="-45720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iheena periaatteessa mikä tahan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äätösvalmistelun seuranta ja ohj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on avoin arvioin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484280"/>
            <a:ext cx="821520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otetaan tietyssä päätöksessä tarvittavaa tietoa avoimin työkalu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ka tahansa saa osallistua työskentelyyn (päättäjät, asiantuntijat, sidosryhmä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a ohjaavat säännöt (keskustelusäännöt, tietorakenteet, syy-seuraussuhteet, …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loksena tieteelliseen tietoon ja arvoihin perustuvia suosituksia päättäjil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pä päätös -suositus” ei yritä korvata päättäjä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Rauma, Por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Rauman satamavaihtoehdo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719928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156360" y="1484280"/>
            <a:ext cx="2771640" cy="3024360"/>
          </a:xfrm>
          <a:prstGeom prst="rect">
            <a:avLst/>
          </a:prstGeom>
          <a:solidFill>
            <a:srgbClr val="ffffff">
              <a:alpha val="56000"/>
            </a:srgbClr>
          </a:solidFill>
          <a:ln cap="sq"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voitteellisuus: Vastataan siihen kysymykseen, joka on päätökseteon kannalta tärkeä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68360" y="260280"/>
            <a:ext cx="8204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orin kuntapilotti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ais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TM:n rahoittama, THL:n koordinoima projekti 2012-20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arviointien oltava tehokkaita tekaisuja eikä vuosikausien hankkeita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oituksena jalkauttaa kuntiin uusia käytäntöj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arvioinn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päätöksentekokäytännöst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Oval 2"/>
          <p:cNvSpPr/>
          <p:nvPr/>
        </p:nvSpPr>
        <p:spPr>
          <a:xfrm>
            <a:off x="2843280" y="1917720"/>
            <a:ext cx="2233440" cy="230328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826920" y="2565360"/>
            <a:ext cx="2305080" cy="107964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e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372360" y="2637000"/>
            <a:ext cx="1728720" cy="865080"/>
          </a:xfrm>
          <a:prstGeom prst="octagon">
            <a:avLst>
              <a:gd name="adj" fmla="val 23148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076720" y="2637000"/>
            <a:ext cx="1295640" cy="792000"/>
          </a:xfrm>
          <a:prstGeom prst="rightArrow">
            <a:avLst>
              <a:gd name="adj1" fmla="val 50000"/>
              <a:gd name="adj2" fmla="val 40898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teu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826920" y="1341360"/>
            <a:ext cx="5545440" cy="3382920"/>
          </a:xfrm>
          <a:prstGeom prst="ellipse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40000" y="1484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käytännö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771640" y="5300640"/>
            <a:ext cx="2664000" cy="792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euranta 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2044440" y="3638160"/>
            <a:ext cx="1957320" cy="166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995640" y="4214880"/>
            <a:ext cx="1800" cy="10922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V="1">
            <a:off x="3995640" y="3494160"/>
            <a:ext cx="3240360" cy="1812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 flipV="1">
            <a:off x="3995640" y="3206880"/>
            <a:ext cx="1656000" cy="21002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 flipH="1" flipV="1">
            <a:off x="2909880" y="4646160"/>
            <a:ext cx="1092240" cy="660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4284720" y="2268360"/>
            <a:ext cx="2592360" cy="144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3:09:53Z</dcterms:created>
  <dc:creator>ktluser</dc:creator>
  <dc:description/>
  <dc:language>en-US</dc:language>
  <cp:lastModifiedBy>Tuomisto Jouni</cp:lastModifiedBy>
  <dcterms:modified xsi:type="dcterms:W3CDTF">2013-09-11T18:53:20Z</dcterms:modified>
  <cp:revision>40</cp:revision>
  <dc:subject/>
  <dc:title>Tekaisu-hankkeen yleisesittely</dc:title>
</cp:coreProperties>
</file>